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E38-3531-45D0-806A-9DFC687B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558-2596-4B82-930D-E2E170AD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785-0248-40E2-AA21-24965D52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8ED-BA4A-4593-AC4D-F38611DD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6C8-45A4-4632-89B4-250F00D7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26FF-ECC8-47EE-9D76-ED26793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6289-52A0-4E2C-9C5D-4CD6307D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88EA-B2E4-42D4-AC85-D1268D0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E51A-6BBB-4842-BACA-F3112B72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FFBE-F0D7-4D74-B66B-5F72895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486-EE6A-40A4-8FC4-979F3A96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581-761D-49C7-AD0F-79A6D0C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06B4-2ACC-4291-9957-6832ED3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C98F-06FE-4F08-B817-DA784C6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FA2-3CDA-4981-ACBF-944C43CE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9AD3-5858-47B0-81C7-89F429F4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2DBD-1984-4158-B2E5-9752628E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6C3-5ACB-45B4-ADED-95A45CA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280-30C2-4684-871A-A14819E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DAE-DAA0-4B3E-BF2C-22F14B32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27B-5D6A-4153-AB7F-FC3865C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315-EF62-4B94-80DC-CE365EC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905-50BB-4199-85F0-ED0369F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E67-ECDC-4706-A86D-8290216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76E-5725-4A19-80D9-D7743A610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F0F-5B7B-4E58-A5C9-3130DDFD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ing Visuals for Instr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ucational Technology 1 (Educ 21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lanie Jeane C. Galve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ucation Program, SS&amp;E Division, Ad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828800" y="441972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urved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Gives a feeling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3581280" y="2895480"/>
            <a:ext cx="3962520" cy="914400"/>
          </a:xfrm>
          <a:custGeom>
            <a:avLst/>
            <a:gdLst>
              <a:gd name="textAreaLeft" fmla="*/ 718920 w 3962520"/>
              <a:gd name="textAreaRight" fmla="*/ 2652840 w 39625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41" hR="21600" stAng="10800000" swAng="5400000"/>
                <a:lnTo>
                  <a:pt x="10541" y="0"/>
                </a:lnTo>
                <a:arcTo wR="7841" hR="21600" stAng="-5400000" swAng="2745253"/>
                <a:lnTo>
                  <a:pt x="21152" y="14400"/>
                </a:lnTo>
                <a:lnTo>
                  <a:pt x="17031" y="21600"/>
                </a:lnTo>
                <a:lnTo>
                  <a:pt x="12014" y="14400"/>
                </a:lnTo>
                <a:lnTo>
                  <a:pt x="15233" y="14400"/>
                </a:lnTo>
                <a:arcTo wR="7841" hR="21600" stAng="-2654747" swAng="-2527428"/>
                <a:lnTo>
                  <a:pt x="9191" y="323"/>
                </a:lnTo>
                <a:arcTo wR="7841" hR="21600" stAng="-5617825" swAng="-5182175"/>
                <a:close/>
              </a:path>
              <a:path fill="darkenLess" w="21600" h="21600">
                <a:moveTo>
                  <a:pt x="0" y="21600"/>
                </a:moveTo>
                <a:arcTo wR="7841" hR="21600" stAng="10800000" swAng="5400000"/>
                <a:lnTo>
                  <a:pt x="7841" y="0"/>
                </a:lnTo>
                <a:arcTo wR="7841" hR="21600" stAng="-5400000" swAng="217825"/>
                <a:lnTo>
                  <a:pt x="9191" y="323"/>
                </a:lnTo>
                <a:arcTo wR="7841" hR="21600" stAng="-5617825" swAng="-518217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457200" y="2209680"/>
            <a:ext cx="3657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rast (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ze, shape, color, orientation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 lends empha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8" descr="j0300524"/>
          <p:cNvPicPr/>
          <p:nvPr/>
        </p:nvPicPr>
        <p:blipFill>
          <a:blip r:embed="rId1"/>
          <a:stretch/>
        </p:blipFill>
        <p:spPr>
          <a:xfrm>
            <a:off x="4495680" y="2286000"/>
            <a:ext cx="4267440" cy="3583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0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ymmetric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(Formal Balance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equivalence of elements on each side of the vis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j0217698"/>
          <p:cNvPicPr/>
          <p:nvPr/>
        </p:nvPicPr>
        <p:blipFill>
          <a:blip r:embed="rId1"/>
          <a:stretch/>
        </p:blipFill>
        <p:spPr>
          <a:xfrm>
            <a:off x="4876920" y="2514600"/>
            <a:ext cx="3504960" cy="3397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a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Asymetric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Informal Bal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rough equivalence of weights among elements to show dynamism and inte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j0234504"/>
          <p:cNvPicPr/>
          <p:nvPr/>
        </p:nvPicPr>
        <p:blipFill>
          <a:blip r:embed="rId1"/>
          <a:stretch/>
        </p:blipFill>
        <p:spPr>
          <a:xfrm>
            <a:off x="4800600" y="2286000"/>
            <a:ext cx="3554280" cy="3363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s real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empha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s an emotional t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Viol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cool”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sychologically seem to recede from the 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ran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“hot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approach the 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highlights help make the objects leap to the vie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2514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mul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n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05320" y="1828440"/>
            <a:ext cx="4876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swee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ed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Comic Sans MS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smel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ark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evoke masculine images of ear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ld, sil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prestige &amp; 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lor judiciously not to lose harm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nalogous (close to each other) colors on the color whe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tering should be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harmoni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nate letterings adapt to aesthetic or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motivational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 letterings (</a:t>
            </a:r>
            <a:r>
              <a:rPr b="1" lang="en-US" sz="3200" spc="-1" strike="noStrike">
                <a:solidFill>
                  <a:srgbClr val="0000cc"/>
                </a:solidFill>
                <a:latin typeface="Century Gothic"/>
              </a:rPr>
              <a:t>goth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com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san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for informational or instructional purpo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ercase letters with capitals = (only when needed)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most leg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 headlines may be in all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CAPIT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ning the lay-o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8954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rran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 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 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16224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Maxim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mpha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Fide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Graphic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mo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962520" y="3276720"/>
            <a:ext cx="838080" cy="7617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 of lettering should contrast with background color for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legibilit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empha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ze (rules to rememb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-</a:t>
            </a:r>
            <a:r>
              <a:rPr b="1" lang="en-US" sz="4500" spc="-1" strike="noStrike">
                <a:solidFill>
                  <a:srgbClr val="0000cc"/>
                </a:solidFill>
                <a:latin typeface="Comic Sans MS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h high = eight feet of viewer di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One inch hig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een by the last student at the last row of a 35-feet-long class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Spac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judge distance by experience stressing an “optical” even and regular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ture viewers att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of geometric shapes as framework to build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495600" y="3962520"/>
            <a:ext cx="153360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1028880" y="3733920"/>
            <a:ext cx="1752480" cy="1676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907240" y="3772080"/>
            <a:ext cx="1779480" cy="1485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the “rule of thirds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733920" y="3505320"/>
            <a:ext cx="9144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562720" y="411480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562720" y="4724280"/>
            <a:ext cx="914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648320" y="4724280"/>
            <a:ext cx="914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733920" y="4724280"/>
            <a:ext cx="914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648320" y="4114800"/>
            <a:ext cx="914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733920" y="411480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648320" y="350532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5562720" y="3505320"/>
            <a:ext cx="9144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489320" y="29718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st domina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579096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937200" y="411480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c a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s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048120" y="3352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trict display to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gle id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vertising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Unique selling pos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52120" y="373356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Horizont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Gives a feeling of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ility and 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2514600" y="2895480"/>
            <a:ext cx="4495680" cy="486000"/>
          </a:xfrm>
          <a:prstGeom prst="rightArrow">
            <a:avLst>
              <a:gd name="adj1" fmla="val 50000"/>
              <a:gd name="adj2" fmla="val 231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752480" y="411480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Implies str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4648320" y="2057400"/>
            <a:ext cx="914400" cy="1981080"/>
          </a:xfrm>
          <a:prstGeom prst="upArrow">
            <a:avLst>
              <a:gd name="adj1" fmla="val 50000"/>
              <a:gd name="adj2" fmla="val 5416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752480" y="411480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Diagon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Shows movement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on and d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 flipV="1">
            <a:off x="2971800" y="2590560"/>
            <a:ext cx="350532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rangement: Lines add to eye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828800" y="441972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rossed Diagonal Li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 Show movement,  action and d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6"/>
          <p:cNvSpPr/>
          <p:nvPr/>
        </p:nvSpPr>
        <p:spPr>
          <a:xfrm flipV="1">
            <a:off x="3505320" y="2209320"/>
            <a:ext cx="350496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8"/>
          <p:cNvSpPr/>
          <p:nvPr/>
        </p:nvSpPr>
        <p:spPr>
          <a:xfrm flipH="1" flipV="1">
            <a:off x="3886200" y="2057400"/>
            <a:ext cx="2819520" cy="19051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176280" y="6172200"/>
            <a:ext cx="54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erence:  Lucido &amp; Borado. Educational Technology, pp 39-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22:09:14Z</dcterms:created>
  <dc:creator>Melanie Jeane C. Galvez</dc:creator>
  <dc:description/>
  <dc:language>en-US</dc:language>
  <cp:lastModifiedBy>User</cp:lastModifiedBy>
  <dcterms:modified xsi:type="dcterms:W3CDTF">2011-08-15T23:45:52Z</dcterms:modified>
  <cp:revision>5</cp:revision>
  <dc:subject/>
  <dc:title>Desining Visuals for Instruction</dc:title>
</cp:coreProperties>
</file>